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15402"/>
        <c:axId val="64645938"/>
      </c:barChart>
      <c:catAx>
        <c:axId val="75415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45938"/>
        <c:crosses val="autoZero"/>
        <c:auto val="1"/>
        <c:lblAlgn val="ctr"/>
        <c:lblOffset val="100"/>
        <c:noMultiLvlLbl val="0"/>
      </c:catAx>
      <c:valAx>
        <c:axId val="64645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15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2A7-ACF0-4BEE-BA61-6F2E5561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B0F-3E3C-4FBD-AB50-8BD04A98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D79-CD8A-4643-8DE1-034A8A6C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65D-41E5-4AB5-9477-5127C532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0BF-28D5-4356-A885-0DF723EF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55D-EE0B-48C9-B3C6-65D1FF58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39A-700A-4D3A-8A64-85BC8A81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D31-6B5F-4C21-8CD6-3F1347CD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3E8-3C52-4587-943E-6B982558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950-E2BF-4538-BFCF-A1928AE7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5C0-9F8B-40C4-86EF-487E2C3F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420-0DE5-4D5B-A44D-8E19BF42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AB097-28B6-44E6-A457-FCEC0480E8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