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06660"/>
        <c:axId val="59617053"/>
      </c:barChart>
      <c:catAx>
        <c:axId val="95506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17053"/>
        <c:crosses val="autoZero"/>
        <c:auto val="1"/>
        <c:lblAlgn val="ctr"/>
        <c:lblOffset val="100"/>
        <c:noMultiLvlLbl val="0"/>
      </c:catAx>
      <c:valAx>
        <c:axId val="59617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06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263-97F8-4FC7-A3F8-2DAF10A4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5A0-E8EF-4219-BE0E-EE69A87E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4CB-CDD9-4228-902E-194C612A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67F-52B3-4758-8DEE-FD0D53B6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15C-7512-4485-A061-3CE95D0E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A3B-A8D4-493F-9135-075955BD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8CC-B66F-4B8A-9A7F-191E99B1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CF9-492C-4A7A-9677-CF67C8C2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92A-9E3B-4C6C-AA79-E3CDACDA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B33-F80F-41D0-9D4E-5CB6B780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803-ABDD-443F-B254-2D5CDDF8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8EB-5D7A-4491-B307-3EDF298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BFFCA-C540-43F1-9079-BCB2F7CB42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