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93473"/>
        <c:axId val="41860930"/>
      </c:barChart>
      <c:catAx>
        <c:axId val="42293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60930"/>
        <c:crosses val="autoZero"/>
        <c:auto val="1"/>
        <c:lblAlgn val="ctr"/>
        <c:lblOffset val="100"/>
        <c:noMultiLvlLbl val="0"/>
      </c:catAx>
      <c:valAx>
        <c:axId val="41860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93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E62-2DF5-4560-B215-196E933A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7FC-D21C-4928-87F6-EC640029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8081-3085-49AF-957F-9443160E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F55B-CD66-4389-8403-CCCBA6F2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1CF-07D6-4619-9998-BA5A763A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2F5-69A5-4377-963C-65BFFF60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8E0-9C5A-45BC-BE57-2CA96B5F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369-82A7-428A-8A71-70E8C534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D3B-DFA8-42F0-B0E7-ED491650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583-DFA7-4D01-BE82-F6E1B089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0C7-A048-44CB-A917-65B915DD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65B-33B7-45C7-BF6F-E445CBF2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4C835-0236-4A5E-BB58-1D2EDA15E0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