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00519"/>
        <c:axId val="2348670"/>
      </c:barChart>
      <c:catAx>
        <c:axId val="662005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8670"/>
        <c:crosses val="autoZero"/>
        <c:auto val="1"/>
        <c:lblAlgn val="ctr"/>
        <c:lblOffset val="100"/>
        <c:noMultiLvlLbl val="0"/>
      </c:catAx>
      <c:valAx>
        <c:axId val="23486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005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28E6-E1A2-4294-A471-99175769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49AB-77B4-43DC-8703-226A07E1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64EB-3F84-459F-87A3-96FAB5C4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4E4-7D3F-4729-A69C-D87D2024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80EB-E37D-4E92-B066-D02AF96E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030E-CAA9-4FB5-98C8-919F0C01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6FE8-6113-443C-88A0-8E55F315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982-7498-4D30-99C6-9DA05F4F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7742-BB70-4AAA-8A4D-B6CA7CD3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028C-F241-4442-B0A1-9538DCA7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B4F-4CEB-4712-B042-52461260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591-E2F8-45E6-9070-21293DA2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93F51-DC6F-4ED4-894B-8F3868AEA9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