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439839"/>
        <c:axId val="42597696"/>
      </c:barChart>
      <c:catAx>
        <c:axId val="704398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97696"/>
        <c:crosses val="autoZero"/>
        <c:auto val="1"/>
        <c:lblAlgn val="ctr"/>
        <c:lblOffset val="100"/>
        <c:noMultiLvlLbl val="0"/>
      </c:catAx>
      <c:valAx>
        <c:axId val="425976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398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9D8A-BBC4-4564-BD18-8FEFA66FB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0D5A-82B2-417B-9547-25900925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4701-3485-477C-B948-0B8F1ED99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862F-0C55-4AD4-988B-57314EDB8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26C2-26DD-4F40-99EF-57FBE4E1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0918-D066-4FCC-933F-7E62A022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9445-1B3C-41C1-B999-13E93340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1A69-9A0C-4D8D-8482-1D412DCD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55CD-3144-4989-81CC-DBA2025A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919D-C32D-424A-AA99-2BADADCD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EDF2-0DB3-44B8-94C0-DA1576B3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A1DC-35B7-47FF-8360-C8C007BA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271F2-93D9-40A0-BD8F-2BA6935437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