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7605"/>
        <c:axId val="62394517"/>
      </c:barChart>
      <c:catAx>
        <c:axId val="12177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94517"/>
        <c:crosses val="autoZero"/>
        <c:auto val="1"/>
        <c:lblAlgn val="ctr"/>
        <c:lblOffset val="100"/>
        <c:noMultiLvlLbl val="0"/>
      </c:catAx>
      <c:valAx>
        <c:axId val="62394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7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E38-3FC1-4001-9BCC-5F372A3E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571-243B-4204-A090-B4CE613C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66B-3C41-43F2-987A-C4330DAE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5F8-0427-44D7-ADBA-D69B15DD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45C-E8D3-43CB-B0B0-0DF2F02F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B78-6751-4765-9732-0B1DA241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EB0-E910-4704-8EAE-8E206EA0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CB7-2E31-47F8-A6F9-96945AFD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AA1-BA8C-489C-B283-67D56A2D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10F-64F4-4ED2-A007-A065A24E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65A-9847-4657-90B9-8E4F5397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593-E299-4B5A-824A-1DEF6AE5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396B0-B0A8-43F1-967D-951DF19644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