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68410"/>
        <c:axId val="37403180"/>
      </c:barChart>
      <c:catAx>
        <c:axId val="49268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03180"/>
        <c:crosses val="autoZero"/>
        <c:auto val="1"/>
        <c:lblAlgn val="ctr"/>
        <c:lblOffset val="100"/>
        <c:noMultiLvlLbl val="0"/>
      </c:catAx>
      <c:valAx>
        <c:axId val="37403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68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83C-79C4-4E24-9CBC-3E55DF7D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11D-F644-4317-9A3C-9DB783BA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154-13EE-4C9E-9BB9-C2E7B31D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47F-9FD3-4B36-ABF7-74121279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C67-390F-4959-AA34-DC6BD272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1F6-B142-475F-9EBC-6CBDE3C1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318-FF8C-4025-9EDC-C0F3D5C2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089-F9EB-4A03-8D42-CCA6408C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FFA-7E06-42C1-B1CA-6A6C36A1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611-D8DB-4E81-9424-A25B3E7F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72D-BD79-4BEC-A745-E6F772FB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F6F-DF06-4CAC-91B1-022096C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DF943-C4AC-476B-8C6B-DE63B23B93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