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18550"/>
        <c:axId val="97839039"/>
      </c:barChart>
      <c:catAx>
        <c:axId val="43518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39039"/>
        <c:crosses val="autoZero"/>
        <c:auto val="1"/>
        <c:lblAlgn val="ctr"/>
        <c:lblOffset val="100"/>
        <c:noMultiLvlLbl val="0"/>
      </c:catAx>
      <c:valAx>
        <c:axId val="97839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18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CBF-9675-48BD-AA94-27754C26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62B-F2A3-4DC0-81D3-FE963F7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B51-83AC-4E9A-9D97-E4E3B834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F88-D0EC-4267-A859-CF619F6F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AEB-80F3-4BFD-867D-791BB4DF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F0C-3928-4B19-BE2F-0CCD1976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239-AF77-4035-8FB6-F4E86A9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0C2-B6E8-4118-8229-ECE7C5D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803-0DC8-4C01-8CA9-F649F8F9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A90-03FB-4C33-8CD9-1F4A064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4EA-CD63-4E64-B2DA-14559DA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3D2-870A-40F4-8B69-A79735D6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9752A-3003-445C-B420-9CCC373086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