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476281"/>
        <c:axId val="95003687"/>
      </c:barChart>
      <c:catAx>
        <c:axId val="434762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03687"/>
        <c:crosses val="autoZero"/>
        <c:auto val="1"/>
        <c:lblAlgn val="ctr"/>
        <c:lblOffset val="100"/>
        <c:noMultiLvlLbl val="0"/>
      </c:catAx>
      <c:valAx>
        <c:axId val="950036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762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7129-FB64-4887-B035-0F9D4CEE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8E5-9575-47AA-AE33-B3A5AB3C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47F4-24AB-4BA9-BAF1-C4E0F6EF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BBC-2A5E-4ECD-AC7D-85668B40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022E-D51A-456D-96A8-BFD3A57D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E4E9-FA6E-48D5-8AF7-307CF92F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23B-1B37-4337-AD0A-F880DCE0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A0ED-D3FD-4B04-A523-EBF03869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9B2-1569-4475-9117-106EC5D0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564E-B8E5-4553-A310-146314B8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D02A-327B-437C-B82B-60FA20A7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658E-D97E-4272-9B0D-96B21AA1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92A0D-6A10-48A0-BAF8-8929B324E5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