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23093"/>
        <c:axId val="7255543"/>
      </c:barChart>
      <c:catAx>
        <c:axId val="77823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5543"/>
        <c:crosses val="autoZero"/>
        <c:auto val="1"/>
        <c:lblAlgn val="ctr"/>
        <c:lblOffset val="100"/>
        <c:noMultiLvlLbl val="0"/>
      </c:catAx>
      <c:valAx>
        <c:axId val="7255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23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D2B-33C9-445A-B2DE-E0DE747D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F63-1FA5-4580-BE8E-4CAC568C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C7A-6FCC-4724-B8D9-E73DA91D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A27-413A-459F-98CB-AF26F50A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787-A52B-4EF8-A599-1DE02AC4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A71-CF0B-41E3-9A31-64153CE2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B50-1511-4F4A-AB73-8A226AFC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EE4-30B8-4B1D-B094-5404A229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FDF-361D-40DE-ACF4-F57AD300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6D6-4BEC-4786-8E2B-4F654D87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B05-F1AE-48FD-A4B9-9D6A5BB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D0F-0516-4D4E-BD5B-14A6968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F8E45-2037-400A-B956-4871689A2D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