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043239"/>
        <c:axId val="28982681"/>
      </c:barChart>
      <c:catAx>
        <c:axId val="370432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982681"/>
        <c:crosses val="autoZero"/>
        <c:auto val="1"/>
        <c:lblAlgn val="ctr"/>
        <c:lblOffset val="100"/>
        <c:noMultiLvlLbl val="0"/>
      </c:catAx>
      <c:valAx>
        <c:axId val="289826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0432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1E7C-E43F-41F9-8155-D3B2B417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4F2E-4B7D-4122-A989-727DA518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3D1F-E984-4FDF-97C2-3EB83E9D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2CE9-06C0-4BA4-8832-145434BD5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8EBA-21B0-4D2F-8E1C-CDB4F7B6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A457-37AB-4101-BF43-6DDCCE9D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35C3-841F-4672-83BB-26B56FE0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92D7-0776-406B-831F-CFB1365D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FEA1-BB35-4E1F-B0AF-DC4B1D43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8E13-409D-4EB4-AC37-D345E72B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415E-5E69-4FE7-B177-6F3583B4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C8D6-7998-4225-98E1-CE0C29F8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A2DA8-7F01-4659-857E-110B3B4D4D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