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7506"/>
        <c:axId val="87620367"/>
      </c:barChart>
      <c:catAx>
        <c:axId val="24377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20367"/>
        <c:crosses val="autoZero"/>
        <c:auto val="1"/>
        <c:lblAlgn val="ctr"/>
        <c:lblOffset val="100"/>
        <c:noMultiLvlLbl val="0"/>
      </c:catAx>
      <c:valAx>
        <c:axId val="87620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7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E91-EAB2-4788-B09A-E27AE4D0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4B9-C13D-4811-9D37-4E069EA6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1F1-C310-4914-9CFF-EE7C47FC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C68-051C-429B-A526-7A6558ED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D93-3575-4498-937C-FE742D0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E38-2AE2-4CA0-B8A4-C58DABD3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431-DFAE-440F-91B0-A01DC5F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136-DAE5-45D4-91E4-6285CCA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033-628D-4BBE-A2FA-1A589505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A76-DA81-4039-B617-CB853864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B33-17CB-4DA2-91ED-72A5678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44D-2F6E-4D61-A045-321CACC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6BA7F-76E6-406E-8D0D-02A4226B3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