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90472"/>
        <c:axId val="14871469"/>
      </c:barChart>
      <c:catAx>
        <c:axId val="67190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71469"/>
        <c:crosses val="autoZero"/>
        <c:auto val="1"/>
        <c:lblAlgn val="ctr"/>
        <c:lblOffset val="100"/>
        <c:noMultiLvlLbl val="0"/>
      </c:catAx>
      <c:valAx>
        <c:axId val="14871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90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DEA-3543-4D06-AB82-01148D82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614-4B36-4674-B31D-72311B82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554-53C9-4F32-A131-9D316558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256-1D79-452F-844A-730BA006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F68-DF3F-4FA6-8991-2D8F148C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711-F5CF-4847-87BD-AD7FD57A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49C-0F93-4775-820B-FEAAE947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123-97C5-4E74-9746-6C6130A7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B12-625B-4BC8-8E03-C2B32328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087-7887-4294-AC7C-4A029A01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719-060D-48F2-9665-21977A36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5D8-7D3B-4DE1-9239-350D5287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CF970-2A19-4698-8B2F-C3ED8CCF91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