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63020"/>
        <c:axId val="41691818"/>
      </c:barChart>
      <c:catAx>
        <c:axId val="56163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91818"/>
        <c:crosses val="autoZero"/>
        <c:auto val="1"/>
        <c:lblAlgn val="ctr"/>
        <c:lblOffset val="100"/>
        <c:noMultiLvlLbl val="0"/>
      </c:catAx>
      <c:valAx>
        <c:axId val="41691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63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BE5-8117-4E95-A0FE-FECB836B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4B8-6A36-4B20-9E7D-CBFBF5F0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8B1-2664-4146-A240-F6EBB715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6B1-7164-47EA-8F3A-6A609D60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6FF-41B6-4325-9AE0-70EE6892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2E6-FA0E-4B6F-9B9E-7BECE725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BB6-E80C-4599-9187-BCDA94AB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FE3-E509-4F84-B645-B3B79C7B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207-F569-4B20-BF12-8230B379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6DF-FBE6-4455-9FFE-C865241D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E64-3422-4A06-93EC-19C0209C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65B-C278-4ACB-8AC6-EF9D80C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804C1-BCB2-48C8-AB46-E91A620647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