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410493"/>
        <c:axId val="87283774"/>
      </c:barChart>
      <c:catAx>
        <c:axId val="124104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83774"/>
        <c:crosses val="autoZero"/>
        <c:auto val="1"/>
        <c:lblAlgn val="ctr"/>
        <c:lblOffset val="100"/>
        <c:noMultiLvlLbl val="0"/>
      </c:catAx>
      <c:valAx>
        <c:axId val="872837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104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DC70-BDE7-42CC-B37F-E296763D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D312-0FD7-41E6-9320-AE9A098A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CED7-9816-489A-ADEC-8CC060FE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C565-E1E3-4025-8D9B-F749A635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8EF3-7A36-4377-A3E9-2889E8EE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8913-0035-47ED-B32F-4C546D23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B256-F5A9-4782-A4FE-5BAE2EDC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C1A8-50AE-4CB5-8002-47B36171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2AC3-8057-4ED6-9382-F6057BF1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0E10-11C2-405C-8349-F5FA8CCA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9A05-7BB9-4EAB-A3B2-0AF0D890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CC60-A249-4454-9AB5-309FBF11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F2B1E-A09F-4911-A97F-237774EB5D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