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6084"/>
        <c:axId val="36822000"/>
      </c:barChart>
      <c:catAx>
        <c:axId val="48260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22000"/>
        <c:crosses val="autoZero"/>
        <c:auto val="1"/>
        <c:lblAlgn val="ctr"/>
        <c:lblOffset val="100"/>
        <c:noMultiLvlLbl val="0"/>
      </c:catAx>
      <c:valAx>
        <c:axId val="36822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60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F76-F0D2-4984-BEFB-147DA67A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1AF2-4162-446C-BF1B-FA04D772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4B4-3C67-497F-AC04-B938226F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8BE-B94D-4502-A354-99F4D597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1EE-36A4-47D4-912A-CC15A264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46CF-71AD-4C39-A995-145FEFCA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580-625B-451C-82B7-928DA8D2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ED77-0322-4BC4-B719-90959994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C25-35F7-4C97-B4CF-847962A7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186-C1C3-4EA6-9431-CEC86D4A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F0C-509F-42A6-A562-73152E38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5281-49B6-406F-8FC0-834EC5B1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AF673-3BFA-4061-898D-BF154170B0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