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89660"/>
        <c:axId val="17336998"/>
      </c:barChart>
      <c:catAx>
        <c:axId val="33889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36998"/>
        <c:crosses val="autoZero"/>
        <c:auto val="1"/>
        <c:lblAlgn val="ctr"/>
        <c:lblOffset val="100"/>
        <c:noMultiLvlLbl val="0"/>
      </c:catAx>
      <c:valAx>
        <c:axId val="17336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89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99F-ED41-4B06-AA3B-C6575F67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55B-3FE3-4363-B4E5-7ED0E7CD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873-5B95-4599-B3A7-952CEA6F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C9C-AE89-4EE8-AA36-85E30B87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B8E-110D-4F53-9533-CE1A5A4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8D9-B2D9-4663-922D-0F31D66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A81-F290-4B6D-8D39-20E2F2B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1B22-94AE-4422-8C18-884E3B10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498-84F0-43E7-A6CF-C9D20D62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023-6E15-44ED-B985-DEC6186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4FE-8935-4FD8-A053-1A63C78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65F-1A3D-4EF2-A436-AF22F3AB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B2CC-D966-40CA-B4DD-A32DE51516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