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10905"/>
        <c:axId val="38531303"/>
      </c:barChart>
      <c:catAx>
        <c:axId val="89810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31303"/>
        <c:crosses val="autoZero"/>
        <c:auto val="1"/>
        <c:lblAlgn val="ctr"/>
        <c:lblOffset val="100"/>
        <c:noMultiLvlLbl val="0"/>
      </c:catAx>
      <c:valAx>
        <c:axId val="38531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10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604-55F6-4687-A5F9-B09C843A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33C-B0E9-4D23-B23D-4611F29D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9E8-5B96-403A-8EE2-09045EAA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99B-F11B-4651-ADF7-0CBC6B99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E87-FCD3-4EDC-96CE-9B6C82ED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B82-E501-456E-B33E-C848E61D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23E-514E-45E9-AC0C-E9758496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3C0-9E0C-4485-AC9C-38C991BA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2AC-B150-45D7-A023-B6CDB091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6AE-8888-4827-9270-6B4E3D37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77A-46E9-4662-B101-5F60C21C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1ED-22D6-46C4-AE3C-CCA49D0C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18D79-CE87-4FBE-B0A6-94E2728103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