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658193"/>
        <c:axId val="56661166"/>
      </c:barChart>
      <c:catAx>
        <c:axId val="696581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661166"/>
        <c:crosses val="autoZero"/>
        <c:auto val="1"/>
        <c:lblAlgn val="ctr"/>
        <c:lblOffset val="100"/>
        <c:noMultiLvlLbl val="0"/>
      </c:catAx>
      <c:valAx>
        <c:axId val="566611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6581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A894-A9BF-4044-B7A6-9D160519B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2F6E-2F07-421A-955A-EB93B039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1E53-CE4F-466F-B644-9ECA18A8B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FDB2-2EF9-43D5-98E7-466717F28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7837-4497-43D4-9907-8D127E44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3D9E-7350-427F-B4CC-8D68EF0B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649B-09E8-4402-9302-B72441F2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5C9D-548B-4FB0-A5A6-100DA249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5294-F52C-48AE-A22F-8D9DCE35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C900-B21A-4D93-964E-0275B97C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475C-D1DC-4413-9869-C3FB4754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E065-4A15-4AF7-9FCF-4CA2AAFF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4FF131-918E-4BFA-BB7C-C0D8622858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