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75912"/>
        <c:axId val="1151406"/>
      </c:barChart>
      <c:catAx>
        <c:axId val="51275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1406"/>
        <c:crosses val="autoZero"/>
        <c:auto val="1"/>
        <c:lblAlgn val="ctr"/>
        <c:lblOffset val="100"/>
        <c:noMultiLvlLbl val="0"/>
      </c:catAx>
      <c:valAx>
        <c:axId val="1151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75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FDD-6907-4829-93A3-F5B6EDD3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117D-E9F8-4DDE-9C76-9872E10D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59D-813C-45ED-BA61-1E8FA51B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F45-5800-47CB-B554-5BE281BF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7F34-3DC3-438F-AA36-FF3256A7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74E-D100-4A03-96F3-D443DEC6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7EC-5C06-419B-94A0-D7F5CD2A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799-9900-435B-984E-B4DCEB95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4F42-A3D0-40AF-8D7B-21A96544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F7B-0B0F-44BC-AE0B-1D91EAC8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4C0-931B-46FF-88AE-6735C88A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06B-114C-4450-A87F-37EE0FF9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AC7A1-17CD-4A5F-AF9C-F0F7CC2E13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