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89108"/>
        <c:axId val="6671022"/>
      </c:barChart>
      <c:catAx>
        <c:axId val="52389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022"/>
        <c:crosses val="autoZero"/>
        <c:auto val="1"/>
        <c:lblAlgn val="ctr"/>
        <c:lblOffset val="100"/>
        <c:noMultiLvlLbl val="0"/>
      </c:catAx>
      <c:valAx>
        <c:axId val="6671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9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87D-9E2F-44C0-8B52-4E2D3761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DDA-65CA-4BDC-81A9-44C2A9E9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BC8-F9CF-44B6-A13D-63B7BF47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2C4-3C94-4888-843D-D5074CBF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05F-1520-4CF5-9677-490A92D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6F0-5227-484A-A065-1E1EE45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7F3-03F6-4512-8EEE-522F234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6C6-425C-4B32-A5F5-1DB508F1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FF6-4D4C-460C-BDCE-BE23C1FF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F8C-B8A7-4D60-9E38-A9D7791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6AC-4C4F-4AAE-B0C5-76349A5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14C-F25F-4402-94BD-7881452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F6F9-ADC4-4432-A3DF-292E5DD539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