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47627"/>
        <c:axId val="90140010"/>
      </c:barChart>
      <c:catAx>
        <c:axId val="43647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0010"/>
        <c:crosses val="autoZero"/>
        <c:auto val="1"/>
        <c:lblAlgn val="ctr"/>
        <c:lblOffset val="100"/>
        <c:noMultiLvlLbl val="0"/>
      </c:catAx>
      <c:valAx>
        <c:axId val="90140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47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E48-A6BD-4E1F-9EC4-39F0AF21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543-7C0B-4B43-BB87-AC42BD16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F41-AFD9-4B6C-8618-8E9C933C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B5D-B05B-4C58-97A9-2A622C84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9C2-BB5E-450F-BEB3-344AC79B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CF6-0D44-4510-ACF7-B4E6CAA9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9AA-F4FC-461F-9B6A-0A896B6A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692-9473-436A-8967-4EAF4B4F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51A-6C0D-4B50-A014-DFEE620F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F51-4193-4166-96AF-E171C5A9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31C-3D94-4CD1-8898-42161F1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103-89B9-4455-AA15-D8E4A901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9AE75-4A8C-4BA8-ACB1-788A50D07A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