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89624"/>
        <c:axId val="5369222"/>
      </c:barChart>
      <c:catAx>
        <c:axId val="78789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9222"/>
        <c:crosses val="autoZero"/>
        <c:auto val="1"/>
        <c:lblAlgn val="ctr"/>
        <c:lblOffset val="100"/>
        <c:noMultiLvlLbl val="0"/>
      </c:catAx>
      <c:valAx>
        <c:axId val="536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89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21B-8737-4F55-8842-DC6044AB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18B-6D8A-4140-8A09-7A47BEC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D62-B12C-46D5-809A-62CB3734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E7C-8FD2-4DDE-A127-1861D90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B38-A478-47B6-9B71-221D527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C63-AF02-46D3-9B2D-8F739895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9D8-1C16-4B25-B8E9-0783E064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E2E-1891-4AB4-9D94-3F2CEE2B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4E1-E3A7-48CF-8D94-3858E6C5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558-F0B8-4900-9145-2BE3B3E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2AD-61D1-4FF3-9799-F75A834C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1E6-1BF7-4F89-9195-910FB04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8354C-4675-4088-B4CB-E82DDF44F8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