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36974"/>
        <c:axId val="10940551"/>
      </c:barChart>
      <c:catAx>
        <c:axId val="316369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40551"/>
        <c:crosses val="autoZero"/>
        <c:auto val="1"/>
        <c:lblAlgn val="ctr"/>
        <c:lblOffset val="100"/>
        <c:noMultiLvlLbl val="0"/>
      </c:catAx>
      <c:valAx>
        <c:axId val="10940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369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64EA-2116-410A-A4B0-D5DCCD15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73E2-9926-4759-AFC1-ABCB9BFE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A10-3554-4739-BE30-D8ECB51A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DF7C-A688-40B4-8AA1-6727BDA7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C2C7-272E-4D40-B8A1-F76D7550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485-22E5-494F-8331-2859D904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58DF-1D5B-4020-8D29-5EEFCE86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0F4-40C5-4392-9FBC-1EFE402F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AB0D-F708-4D3B-A342-7B7C4D83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5A9-C32F-4ADF-BC87-1979BC75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736-0467-4E5A-9FD7-9A35B0E5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6F86-A57F-49E0-AAB2-56DE253E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8BB60-7155-4C38-90F3-DDA4868F99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