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0465"/>
        <c:axId val="55403640"/>
      </c:barChart>
      <c:catAx>
        <c:axId val="1750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03640"/>
        <c:crosses val="autoZero"/>
        <c:auto val="1"/>
        <c:lblAlgn val="ctr"/>
        <c:lblOffset val="100"/>
        <c:noMultiLvlLbl val="0"/>
      </c:catAx>
      <c:valAx>
        <c:axId val="55403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0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567-8171-441D-9E01-678571FE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8F0-F254-47A8-B4AB-1B092B27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6CC-4949-4147-8131-AEA462A5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367-D0F2-47C5-AB07-AFFB1BA6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B76-5745-45AD-B21A-DDC43135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71A-B257-452A-A125-6CB08195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729-ED12-4977-97BF-E9AA2A89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64B-4518-4273-8EB1-67093C46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9D9-1644-4BEC-85F1-2ADECA11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699-A652-4FDB-99B8-341BD737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224-DFA9-4A56-9B56-7068909F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6C9-BD78-4414-AE1F-ED0EE334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59CFC-ABC0-42F7-9A3D-5FE76DF3FF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