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42980"/>
        <c:axId val="60445786"/>
      </c:barChart>
      <c:catAx>
        <c:axId val="7374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5786"/>
        <c:crosses val="autoZero"/>
        <c:auto val="1"/>
        <c:lblAlgn val="ctr"/>
        <c:lblOffset val="100"/>
        <c:noMultiLvlLbl val="0"/>
      </c:catAx>
      <c:valAx>
        <c:axId val="60445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4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0A3-10F0-4FA7-8E80-1FD24384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FDA-8AC7-454F-B811-4FE2D189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6EA-064E-491A-B39A-951896D9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778-B5B9-4815-BF96-3887EA2E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6C4-B7D7-49A4-8327-06FD9808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37C-C288-4181-A3DD-7D4FE6F5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E7E-C93A-47ED-911C-95B95730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CC4-3842-4426-A7F9-CFFC478C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2FA-D08C-4F83-867F-C1DD0BA0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317-2318-4C1E-AA76-6A9A3A4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653-7A59-4599-8FC9-D57BF5F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D2-8497-4653-BE0A-27423F8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6F59-5CD6-4345-BADB-AD41BEE879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