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50514"/>
        <c:axId val="51863810"/>
      </c:barChart>
      <c:catAx>
        <c:axId val="97550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3810"/>
        <c:crosses val="autoZero"/>
        <c:auto val="1"/>
        <c:lblAlgn val="ctr"/>
        <c:lblOffset val="100"/>
        <c:noMultiLvlLbl val="0"/>
      </c:catAx>
      <c:valAx>
        <c:axId val="51863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0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FEC-4F65-41F3-A331-2A2BB024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21E-42FA-4198-B351-C3353D5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BC4-E504-4CA6-921B-31FEB5CC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C52-1D5A-4F1D-BAF4-51BB4FC4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E44-4E39-4156-8F63-21933D00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857-BD66-4EA1-9EA8-7B7AA3A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109-31D4-45CE-8844-4ED14ECC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DDD-5368-41BB-8E24-277BF6A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388-9CCD-43D0-8845-82B9B4ED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E0D-14CB-49A8-9CDB-4135DE2F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821-5A79-4D61-B9EB-ECA9BE1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202-14B0-46AE-BA52-1F96938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3EB5F-CD6B-4A0E-903F-87DD6B115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