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51294"/>
        <c:axId val="5929252"/>
      </c:barChart>
      <c:catAx>
        <c:axId val="75951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9252"/>
        <c:crosses val="autoZero"/>
        <c:auto val="1"/>
        <c:lblAlgn val="ctr"/>
        <c:lblOffset val="100"/>
        <c:noMultiLvlLbl val="0"/>
      </c:catAx>
      <c:valAx>
        <c:axId val="5929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51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C19-3BF4-408F-B4AB-E504DA2B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D1B-0501-4A80-A883-464316B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FAF-7E0F-44C0-B450-D6DEF981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57E-2142-4EC3-899D-43FDE89A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49C-4A80-49EA-8F7B-76EFEB3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914-C27D-4194-9B16-9DD833C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B14-DCD5-4D12-BE55-280B218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528-9968-41F5-886D-D36CDAC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23D-E6A8-4B17-973F-070075EA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B8A-2D58-4B53-B9B7-EDAF353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DAE-C994-40B6-B033-EB3802E9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78C-1FCC-46B1-8E35-C29C3F0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E4B50-ABD3-40FC-857D-1497777F2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