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96711"/>
        <c:axId val="74596987"/>
      </c:barChart>
      <c:catAx>
        <c:axId val="30496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96987"/>
        <c:crosses val="autoZero"/>
        <c:auto val="1"/>
        <c:lblAlgn val="ctr"/>
        <c:lblOffset val="100"/>
        <c:noMultiLvlLbl val="0"/>
      </c:catAx>
      <c:valAx>
        <c:axId val="74596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96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ED5-7393-4C6B-8DCF-51E88B7C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70B-0D5D-491A-982F-909AB247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4E0-2B41-4CB2-BEE5-24624540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FE4-2CB6-4A0B-B761-6E0DBF3B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240-2942-4855-B0FA-C310B2A2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1A0-2963-4F3E-9FDD-20A693D2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E0B-5D82-438F-903C-F25E2525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9B5-E130-462D-80BD-B332092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739-3D86-4DCE-813A-EA36CCC2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58C-235D-4925-8969-D2CB76E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048-EC7A-43FB-866A-9A71E8F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C09-1E9E-4DEA-B758-5AF02AE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2EE01-46C2-4AFB-BD99-BA7ED83EB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