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7332"/>
        <c:axId val="21259469"/>
      </c:barChart>
      <c:catAx>
        <c:axId val="6137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59469"/>
        <c:crosses val="autoZero"/>
        <c:auto val="1"/>
        <c:lblAlgn val="ctr"/>
        <c:lblOffset val="100"/>
        <c:noMultiLvlLbl val="0"/>
      </c:catAx>
      <c:valAx>
        <c:axId val="21259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7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14B-19A4-42FA-B2DA-2064D39B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1D3-88E0-45D6-A340-0B884EE0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B7D-7CD1-4CE7-8049-EDC9D491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917-499E-40C7-B4D6-7973DCA0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2DC-C442-4D41-B7FB-55C4EF11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F6B-56F1-463D-8FE9-0F7E8154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653-35AA-4F2B-A2BA-611192FF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B14-A66B-4701-A851-16E5A54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C0D-BA06-4071-B2EB-88B77FBD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C9B-DFF2-47E1-8AF6-2BC95AA8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C6C-368B-4C5F-856D-D071A931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B97-C89C-4A2F-ADEA-BC9022C1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44407-AB1E-4C2F-A64C-425023D043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