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43134"/>
        <c:axId val="50314490"/>
      </c:barChart>
      <c:catAx>
        <c:axId val="89843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14490"/>
        <c:crosses val="autoZero"/>
        <c:auto val="1"/>
        <c:lblAlgn val="ctr"/>
        <c:lblOffset val="100"/>
        <c:noMultiLvlLbl val="0"/>
      </c:catAx>
      <c:valAx>
        <c:axId val="50314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43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6D1-8F4E-4454-AC0F-1ED1ABCC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00B-16F9-4998-BD49-901CE095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83A-589F-4DBB-8E85-D9CBAD01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E34-C049-4F76-B603-8AEC8DE2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6E3-07DB-4149-80FA-F910EE72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CEF-4198-42F3-A854-6779415A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E7F-AB86-4A5A-8725-66D638E4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44A-5021-47AC-B503-A7E7DF9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0A0-4B1C-4395-AA00-1DA367A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4D7-D33C-4C09-AA9C-E7BFF655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7B5-0142-4379-A3D5-7B10B3DA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2A7-E45E-42C2-A486-658E2363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5B892-534C-4440-9947-CA159C7184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