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33049"/>
        <c:axId val="1461576"/>
      </c:barChart>
      <c:catAx>
        <c:axId val="22633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1576"/>
        <c:crosses val="autoZero"/>
        <c:auto val="1"/>
        <c:lblAlgn val="ctr"/>
        <c:lblOffset val="100"/>
        <c:noMultiLvlLbl val="0"/>
      </c:catAx>
      <c:valAx>
        <c:axId val="1461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33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1DF-A728-46D3-B677-3E218B71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732-9D49-46F1-8F26-8AD9AEF0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73C-151C-4683-A3BB-FEE5089A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B01-DA3E-4AE3-B68F-CA0C18BE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1BB-6CE4-480E-9EE8-DE5F6220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1FE-B0C1-4181-B9A1-6D8C4C7D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D5B-673B-4925-8B9C-604A9192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8E6-646D-489B-AC5A-9B5B794D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009-3B56-4C1F-80B9-449E6685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5A8-2553-4836-9999-7389E9A2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AB1-0B12-43EE-9123-E7301FD1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2CF-4460-4FDF-8712-571F2C1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E5E91-5050-4628-936B-6E5D42B9B9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