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2110315"/>
        <c:axId val="27519783"/>
      </c:barChart>
      <c:catAx>
        <c:axId val="7211031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519783"/>
        <c:crosses val="autoZero"/>
        <c:auto val="1"/>
        <c:lblAlgn val="ctr"/>
        <c:lblOffset val="100"/>
        <c:noMultiLvlLbl val="0"/>
      </c:catAx>
      <c:valAx>
        <c:axId val="2751978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11031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E8FDE-5A04-451A-8675-44A45B243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DE617-243A-4133-A0DE-0D4881505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0610C-34E4-4962-85CC-C50BC3B0D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B3FDC-7DE1-4F96-98C0-73D52D33B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885F3-6151-4EC9-A43F-028A8F42F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34569-1EA2-4E6C-9189-E3414A681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589AC-3F21-4C9C-AC0D-4A4480E06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41E22-774D-4788-9474-C5A4DC3F7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57945-36D3-4BF6-ABF7-540733BBD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162A8-25E0-4EA9-A799-2D21C5A6F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F1B7B-E64C-4C17-A990-36835F4EC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0404F-BB6C-4F32-85C0-A34D928BC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C587BA-43A0-4201-91C1-CB04625EA3A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