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30307"/>
        <c:axId val="69651256"/>
      </c:barChart>
      <c:catAx>
        <c:axId val="23130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1256"/>
        <c:crosses val="autoZero"/>
        <c:auto val="1"/>
        <c:lblAlgn val="ctr"/>
        <c:lblOffset val="100"/>
        <c:noMultiLvlLbl val="0"/>
      </c:catAx>
      <c:valAx>
        <c:axId val="69651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30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A5B-CDC8-447F-B6BD-DEB887C4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232-2D48-4806-9F0C-FA1D0DD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90F-8F85-4524-9A13-DF57A549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6B4-1FB9-4C10-A556-1198DEA3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96A-44B1-4BB4-BD8C-B0E0C97F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A94-C8AB-484A-BCEE-7D91A91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690-7C54-4A87-8541-6C8D3802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10B-B867-455C-8275-C809B57D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E0D-A16B-4A45-88E3-E32B03D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BA0-EE19-4033-88E1-5375E4A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173-FA26-425A-A40E-A68C4A8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9D2-B9A8-496C-A244-BA6A5A4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622EE-67D1-4C3C-B6BD-579B2C86B5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