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7836"/>
        <c:axId val="85582821"/>
      </c:barChart>
      <c:catAx>
        <c:axId val="65347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2821"/>
        <c:crosses val="autoZero"/>
        <c:auto val="1"/>
        <c:lblAlgn val="ctr"/>
        <c:lblOffset val="100"/>
        <c:noMultiLvlLbl val="0"/>
      </c:catAx>
      <c:valAx>
        <c:axId val="85582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7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9AC-3080-454F-A9C8-4FC523CE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E11-F094-460A-9404-25DFA24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111-4E5C-4DD0-8AF2-683F0871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3A0-8C98-4DA8-BF32-82FA7AA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B1E-0DC1-4E05-9564-933A545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8E0-CACE-4465-B63D-AB84812B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B94-F3B3-4E28-9BAA-8958CAC8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744-365C-4577-AA58-EA73221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7BD-5797-4896-ADF3-5650BFB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DED-4895-41D5-A6C3-A18C70B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A27-9C31-47E6-93F9-3337D73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0B6-79CC-4A3B-A3D2-9F78DE7A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02805-FE10-4BB0-83D7-96971776F6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