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67909"/>
        <c:axId val="33659085"/>
      </c:barChart>
      <c:catAx>
        <c:axId val="83767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59085"/>
        <c:crosses val="autoZero"/>
        <c:auto val="1"/>
        <c:lblAlgn val="ctr"/>
        <c:lblOffset val="100"/>
        <c:noMultiLvlLbl val="0"/>
      </c:catAx>
      <c:valAx>
        <c:axId val="33659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67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33E-D28C-4154-948C-5EBF354D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389-785E-41D2-97E1-66973E5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530-D6FA-4525-AA2A-7422FEE4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46F-B949-4C2D-B214-21F5ED11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B58-FB8D-4A6D-B89F-81ABD927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AB7-B49D-4C12-9DEE-1F414B37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D3D-4448-41C0-9D12-90059C58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129-F03A-4E96-AFB7-7A9B077D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C3E-3384-4FEB-848D-963320D2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F41-55D7-4860-86FD-ED3388DE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BC3-BBDF-47FE-9750-EC2775AB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561-7964-4C2F-AB74-94A5B76B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E1498-9745-4B42-A252-F2486D603E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