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059208"/>
        <c:axId val="37871395"/>
      </c:barChart>
      <c:catAx>
        <c:axId val="540592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871395"/>
        <c:crosses val="autoZero"/>
        <c:auto val="1"/>
        <c:lblAlgn val="ctr"/>
        <c:lblOffset val="100"/>
        <c:noMultiLvlLbl val="0"/>
      </c:catAx>
      <c:valAx>
        <c:axId val="37871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592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7985-D0E6-42BA-9FFA-DB8F06FE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E07B-BD1C-42BD-8073-EE2E4F07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A0B-7018-4387-8668-6F9A9AEE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7F6D-54EF-4D43-9E43-1534A951C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CA9C-27CC-4FAB-8462-C1651DE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1191-CD48-45F2-BA57-88C51C1C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472-069D-44A5-868E-C14F4B92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71B0-5B55-4005-AC42-4FB5D527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73D3-48EB-49B2-8366-C8CAF9C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68B-D3D1-4AAE-91D8-DB7B7B63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448D-85EE-45E0-AAB3-26008665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FD9D-CE94-4611-97F4-784AE9FAB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19F27-F9E2-4F5E-850B-AE5B0A0DA7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