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36260"/>
        <c:axId val="87298115"/>
      </c:barChart>
      <c:catAx>
        <c:axId val="18836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8115"/>
        <c:crosses val="autoZero"/>
        <c:auto val="1"/>
        <c:lblAlgn val="ctr"/>
        <c:lblOffset val="100"/>
        <c:noMultiLvlLbl val="0"/>
      </c:catAx>
      <c:valAx>
        <c:axId val="87298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36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DCE-57FB-4DCD-89D2-B89B3646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1AE-F7C6-4041-A733-F8A4723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765-4363-4113-91D9-2F47C6D4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442-289F-4FCF-B151-F6AC33FF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385-3A6A-46E8-BC9B-B183A4CA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964-021D-4765-BC24-DA3970D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58C-81D3-4303-96AC-EA9EF2D5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7A9-952F-486C-A3A2-EB59D733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6BF-306E-4503-8C99-CF0C397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21B-DE71-409D-A738-FB72AF40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D54-9D03-4D31-ABD8-A044BA7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065-C316-44C1-9026-BDBF2E35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3CF63-AC8A-4299-83A4-36EBF5A95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