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53778"/>
        <c:axId val="44008229"/>
      </c:barChart>
      <c:catAx>
        <c:axId val="46053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08229"/>
        <c:crosses val="autoZero"/>
        <c:auto val="1"/>
        <c:lblAlgn val="ctr"/>
        <c:lblOffset val="100"/>
        <c:noMultiLvlLbl val="0"/>
      </c:catAx>
      <c:valAx>
        <c:axId val="44008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53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E85-C402-45F3-9E37-62DDC5A9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792-B89D-4E53-8581-5739BF5A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2F9-B0E5-4C8F-AE15-DD50C400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2AB-0AE8-4161-BCAF-0E7A74DF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70C-49BB-4259-91AE-D1B3E0C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F77-9FBE-46F0-9933-DFAE6BCD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822-C9F1-43C9-BCD0-D34045F2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DF0-EF4C-43E2-A85F-079181D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C2F-1D0D-4557-9F97-F4C10423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AE3-7283-44BD-A172-219A6FF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F5C-9DF5-4C7A-8D1C-8A63D473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B72-684E-46C8-9156-80E763B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B682-7482-47D5-B623-C8A0249DD9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