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21594"/>
        <c:axId val="83249150"/>
      </c:barChart>
      <c:catAx>
        <c:axId val="63821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49150"/>
        <c:crosses val="autoZero"/>
        <c:auto val="1"/>
        <c:lblAlgn val="ctr"/>
        <c:lblOffset val="100"/>
        <c:noMultiLvlLbl val="0"/>
      </c:catAx>
      <c:valAx>
        <c:axId val="83249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21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679-3EBF-4611-8549-DD8DA493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0C3-26E2-45AB-982E-0F6C12BC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B1F-B9C8-4376-B052-E245ED78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F2E-4367-4469-9748-67645A5F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597-F4AA-434F-BE2B-1CABCA95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695-BF6A-4F99-8741-3B215C63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48C-BCAA-4188-BF3A-5CD74C21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DB0-2B46-427E-8CB9-9D75F610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560-1B41-4D96-9F0E-1FF128A5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A2C-6516-4455-835B-B5F5550A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5B7-320C-4A39-A335-C492615E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CB7-AB90-4B4C-AF6F-2922CD3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9E37C-F93D-4A2E-BDC5-D29F7CD8EE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