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84175"/>
        <c:axId val="51964834"/>
      </c:barChart>
      <c:catAx>
        <c:axId val="55084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64834"/>
        <c:crosses val="autoZero"/>
        <c:auto val="1"/>
        <c:lblAlgn val="ctr"/>
        <c:lblOffset val="100"/>
        <c:noMultiLvlLbl val="0"/>
      </c:catAx>
      <c:valAx>
        <c:axId val="51964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84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47C-DA11-4461-A9EE-431B84B9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D3F-DBCD-432B-9279-75DB3B3B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6BA-7E8D-425F-9524-05B69B7D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A2A-5ABC-462A-A18F-06D506C2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0E8-18BD-45AA-8959-175010BC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43D-6F36-47F9-AFE3-8447358C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848-A026-40CB-B336-924165F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4A0-31BC-4D03-9ADB-0478238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2B5-2B3D-4DF9-B9E1-CBC6B5F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91F-36BD-453F-B2E5-E27BBEB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4D6-E672-4718-BEF2-8232EF8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768-79C7-4724-9022-0873E1A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28074-3FA0-4426-B3DC-D6E9A66826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