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219445"/>
        <c:axId val="19151864"/>
      </c:barChart>
      <c:catAx>
        <c:axId val="732194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151864"/>
        <c:crosses val="autoZero"/>
        <c:auto val="1"/>
        <c:lblAlgn val="ctr"/>
        <c:lblOffset val="100"/>
        <c:noMultiLvlLbl val="0"/>
      </c:catAx>
      <c:valAx>
        <c:axId val="191518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2194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9CE6-8C9C-4DF2-A189-A04FE98E5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B0C9-0E21-4747-91FC-017FEE46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05F2-B905-4A5F-9D57-20E242EEF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4C92-8F73-46C4-8B5C-50A808214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16EA-6FB7-4806-A03C-E262F51D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9652-57CD-4DE0-8841-44968BDD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0CB2-CDC7-492C-B320-C517A02D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C8E9-3CBD-437D-960B-B854E693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CB97-CCF8-4B7E-96E2-6B26A95B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3D87-2BC2-40EA-86F5-159144F4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CDF0-CD55-43E8-A1BD-D078F7B6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329A-ED64-4672-92BA-7350D809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DF1C64-FD2E-432D-B5FF-17D58280E4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