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68098"/>
        <c:axId val="29999576"/>
      </c:barChart>
      <c:catAx>
        <c:axId val="66568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99576"/>
        <c:crosses val="autoZero"/>
        <c:auto val="1"/>
        <c:lblAlgn val="ctr"/>
        <c:lblOffset val="100"/>
        <c:noMultiLvlLbl val="0"/>
      </c:catAx>
      <c:valAx>
        <c:axId val="29999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68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0DD-2867-4F34-AF7C-2C24EEA3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DA0-687B-408B-8377-191556C4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DB5-D42F-413E-84ED-D10C2C5B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FC5D-DCA6-41CC-9D88-62D394BF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227-7700-426E-9499-57657D15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972-C0BC-465E-92BC-AB6E54FF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621-92B1-4F9A-8D0C-A5A76DF3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7A9-6A44-4A43-952A-61780E3C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01F-47D3-487F-9366-2C38B11B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D90-0E46-4EDF-9B02-0B3D9A22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8C5-D2B1-4FDE-8193-7503BD51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DD56-E9EF-4E0D-9B40-243991E4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355C5-67AC-4B28-B9A9-25E63DB0E8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