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96537"/>
        <c:axId val="20074692"/>
      </c:barChart>
      <c:catAx>
        <c:axId val="64896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4692"/>
        <c:crosses val="autoZero"/>
        <c:auto val="1"/>
        <c:lblAlgn val="ctr"/>
        <c:lblOffset val="100"/>
        <c:noMultiLvlLbl val="0"/>
      </c:catAx>
      <c:valAx>
        <c:axId val="20074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6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E15-AE16-4808-8EDD-D1E4FEEF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CE3-0A1E-44ED-9B94-923ED04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F2A-836E-45E5-88A3-D31F3A14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B5C-4A2D-4CBB-BCAD-A7674CE4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270-E2A2-44C0-8621-5CF0CCF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84B-2B41-4C41-B418-B248DD9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E93-C1D8-4DFD-987A-E502B310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C8E-282D-4519-BE70-1B7CF88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B67-921E-439A-B91E-2F05EC5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792-476B-4311-99E0-4085078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DD2-C2E7-4965-A5C6-D539AAE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D8D-649E-402B-BAEF-131D67A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73B61-9528-40CB-8F9F-26A9C5A141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