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80604"/>
        <c:axId val="36159027"/>
      </c:barChart>
      <c:catAx>
        <c:axId val="65380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59027"/>
        <c:crosses val="autoZero"/>
        <c:auto val="1"/>
        <c:lblAlgn val="ctr"/>
        <c:lblOffset val="100"/>
        <c:noMultiLvlLbl val="0"/>
      </c:catAx>
      <c:valAx>
        <c:axId val="36159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80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DB6-1DAE-47CA-979C-B2BAA913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058-3C1F-4DCE-81D6-74C1B9FB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B61-54B2-42C1-B5F8-28B8CCAD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59E-4CC9-48F8-8D5E-7F1627B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D65-279C-41E1-B2B6-6F1D202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645-A809-4F2F-B59A-4EBEA2C3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041-2CE8-4187-B9B1-0D08FBD9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496-ACD2-4507-8F44-2C48160B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6C9-2748-4EF8-969D-0E41D53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670-9A74-4832-95B4-47F9C06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BFF-02CD-46A8-98A4-BD2CAA31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464-B638-4A32-BD6A-4784117A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52506-A473-42F3-B943-CAF1372B4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