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21861"/>
        <c:axId val="81544179"/>
      </c:barChart>
      <c:catAx>
        <c:axId val="24621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44179"/>
        <c:crosses val="autoZero"/>
        <c:auto val="1"/>
        <c:lblAlgn val="ctr"/>
        <c:lblOffset val="100"/>
        <c:noMultiLvlLbl val="0"/>
      </c:catAx>
      <c:valAx>
        <c:axId val="81544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21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172-0236-429F-ABD8-6B7D17A9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FB0-25CE-4F63-A613-309CD177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BD0-F90D-4223-B355-BA5751C4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C58-12C4-40CE-8456-1012BE40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E41-8F68-4A1D-994B-BF13AE3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E2A-B55D-4EFB-8724-BD8C6BBB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376-2AED-4A6A-B2E8-F6FEF32F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7BF-B8DB-42DC-B2A7-BFAE3527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E60-A40D-4891-86D1-775846D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269-F87E-412D-9B1E-7B6EB006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432-1334-4105-800F-7F7FC9D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449-0F17-449F-9522-2B00041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328E-A9E6-41AC-8887-0B920F3466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