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8786"/>
        <c:axId val="43682745"/>
      </c:barChart>
      <c:catAx>
        <c:axId val="2658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82745"/>
        <c:crosses val="autoZero"/>
        <c:auto val="1"/>
        <c:lblAlgn val="ctr"/>
        <c:lblOffset val="100"/>
        <c:noMultiLvlLbl val="0"/>
      </c:catAx>
      <c:valAx>
        <c:axId val="43682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8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1B1-F9D0-4D8A-AB56-BA3A37A1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688-611F-4032-98AF-7E58B057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6FB-4352-425C-9C65-B312B590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3DD-A140-43CD-945B-331177DE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D87-D492-4777-A44A-9033C3F5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AEB-E2CB-459C-8FBE-D662B596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CF1-62B0-4000-A282-E67EF0FF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59A-269F-412C-AF23-D9EA510A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B0D-E7B0-40DE-B2D6-3D680251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A06-80C7-468D-A5F6-AC9C9BBD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E27-D8C9-4CBE-8377-926B3D9C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780-AC5C-4F39-80D2-74B3057E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E5194-EF33-4910-954F-5F738712BE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