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82569"/>
        <c:axId val="81015005"/>
      </c:barChart>
      <c:catAx>
        <c:axId val="111825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15005"/>
        <c:crosses val="autoZero"/>
        <c:auto val="1"/>
        <c:lblAlgn val="ctr"/>
        <c:lblOffset val="100"/>
        <c:noMultiLvlLbl val="0"/>
      </c:catAx>
      <c:valAx>
        <c:axId val="810150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825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D68C-26EC-4670-990F-E10595A1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BEB2-B695-4B42-89B0-09B8CFFB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C8D2-FC95-40BC-B424-04863F42D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FE43-06A3-4021-8AD3-085ACEEE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6171-6F49-4ADE-9FA3-F7E71CAF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EC5E-CE78-4B1A-9EB6-5807E9CA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76EF-F215-4C0C-ABC6-4C87B144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B564-B764-4BC3-907D-253B8456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BF25-471A-4979-BD37-6A2AA3A5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1239-10BF-4FDD-9857-0631C293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5781-324C-406B-AC42-F8BB3616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2318-47FC-449E-B20F-C6DA068C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95F05-E8D7-4D4F-8D75-BDA8338E4A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