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408791"/>
        <c:axId val="34453099"/>
      </c:barChart>
      <c:catAx>
        <c:axId val="954087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453099"/>
        <c:crosses val="autoZero"/>
        <c:auto val="1"/>
        <c:lblAlgn val="ctr"/>
        <c:lblOffset val="100"/>
        <c:noMultiLvlLbl val="0"/>
      </c:catAx>
      <c:valAx>
        <c:axId val="344530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4087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DAC9-2695-4B26-9A27-FFF904F52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3C22-5E4B-4EE6-92CA-C9B4BC089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67F9-ED4A-4DBC-9B4D-B9A32B18F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62BB-ACC1-4AF6-94F7-6F81C7F97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38CC-56F3-4B9A-88C3-85CFFE0DD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A6D3-2D3A-4202-837F-39A6808ED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9115-C532-47BA-B4A7-BC5CB7F25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9140-0F8F-4F3B-892E-E547A79C9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6941-F872-434F-842E-2397D4247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208D-8F96-491C-93E0-169C165E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07B9-C02C-4196-840B-4AF1B11F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8451-B0AE-47ED-BA51-58670808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C353A5-92D6-4480-93BC-59564946601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