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353935"/>
        <c:axId val="34393425"/>
      </c:barChart>
      <c:catAx>
        <c:axId val="993539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93425"/>
        <c:crosses val="autoZero"/>
        <c:auto val="1"/>
        <c:lblAlgn val="ctr"/>
        <c:lblOffset val="100"/>
        <c:noMultiLvlLbl val="0"/>
      </c:catAx>
      <c:valAx>
        <c:axId val="343934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539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B036-51B4-4B8D-8D4C-4EB4F3D9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153A-3FE2-434D-8EA3-B6361D54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2D27-9CFA-4FBC-834B-96492175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5709-B4E1-4089-A5F2-CC614902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FC15-2364-485A-8C06-FE896E91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11EB-65C0-45A8-8838-76A73D8B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2427-C636-4FF3-BB8E-D47358AA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ABBC-C84C-46E2-AC5F-B65C9BB0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3442-B181-4CD8-B5C1-A02D1E98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5497-482B-488A-88D4-CF97D340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D96A-D4C2-4B69-9C8D-6B4A94FF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91AB-D169-430A-B328-143350DC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807C5-7C70-4C4E-810D-37D6CBE671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